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9B06-5572-42B5-BDAF-596BE37B4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156-F20C-437F-92C2-63F5F62E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F69-6484-4A9F-B03F-AB83A3E6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7C4-DD47-4C84-AF29-A5DCF01B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F8E-7E0C-421E-B2CD-6D664CA9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200-B4C0-459B-9052-8D20A804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41F-B5ED-442F-B882-516248F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F9F-E5E8-471F-A0FC-A680C2B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55C-63AE-4F2A-96FB-41FB634C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77B-19D7-4B1D-889F-8AEAD58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AC4-E204-4C34-9392-463B40C6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379-EAEB-4C9E-BADA-DF14FE0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DD5-AE21-47FB-9404-9162B81F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CCB-8B86-4478-9770-A53D0777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748-AF3B-42E1-8345-45853EC7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stocke</cp:lastModifiedBy>
  <dcterms:modified xsi:type="dcterms:W3CDTF">2011-10-10T02:52:29Z</dcterms:modified>
  <cp:revision>118</cp:revision>
  <dc:subject/>
  <dc:title>Museum of World Stuff</dc:title>
</cp:coreProperties>
</file>